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2F73-BCB7-466D-ADFB-5086725D5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15720" y="677880"/>
            <a:ext cx="75358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369880" y="2201760"/>
            <a:ext cx="728172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369880" y="4590000"/>
            <a:ext cx="728172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7914-7A11-4F62-B491-2D1C39D6D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15720" y="677880"/>
            <a:ext cx="75358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369880" y="2201760"/>
            <a:ext cx="35532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01280" y="2201760"/>
            <a:ext cx="35532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369880" y="4590000"/>
            <a:ext cx="35532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101280" y="4590000"/>
            <a:ext cx="35532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DDA0-BE8A-4CED-9294-E509A2063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15720" y="677880"/>
            <a:ext cx="75358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369880" y="2201760"/>
            <a:ext cx="234432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2201760"/>
            <a:ext cx="234432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93600" y="2201760"/>
            <a:ext cx="234432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369880" y="4590000"/>
            <a:ext cx="234432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1920" y="4590000"/>
            <a:ext cx="234432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93600" y="4590000"/>
            <a:ext cx="234432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209A-A331-4753-B81F-ABFD28AC4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DCB27-1238-4B82-B23A-7F38A059E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15720" y="677880"/>
            <a:ext cx="75358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369880" y="2201760"/>
            <a:ext cx="7281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7A4DF-DA6E-42D5-96A2-D8C45EC71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15720" y="677880"/>
            <a:ext cx="75358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369880" y="2201760"/>
            <a:ext cx="728172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A000B-F050-4809-BED8-615F93986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15720" y="677880"/>
            <a:ext cx="75358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369880" y="2201760"/>
            <a:ext cx="355320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101280" y="2201760"/>
            <a:ext cx="355320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9DD47-D6CB-4CFE-BBE1-53B0A10C2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15720" y="677880"/>
            <a:ext cx="75358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CA1E8-F03F-40A5-9BBE-8809D4104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115720" y="677880"/>
            <a:ext cx="753588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5EFC6-2262-4B17-A8E5-648B18919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15720" y="677880"/>
            <a:ext cx="75358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369880" y="2201760"/>
            <a:ext cx="35532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101280" y="2201760"/>
            <a:ext cx="355320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369880" y="4590000"/>
            <a:ext cx="35532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66620-4780-4CB3-B6B6-A6F1FEC0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15720" y="677880"/>
            <a:ext cx="75358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369880" y="2201760"/>
            <a:ext cx="7281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C8FD-C712-49CC-85E4-B36BD0972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15720" y="677880"/>
            <a:ext cx="75358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9880" y="2201760"/>
            <a:ext cx="355320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101280" y="2201760"/>
            <a:ext cx="35532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101280" y="4590000"/>
            <a:ext cx="35532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96459-844A-4137-B3A5-BF78B129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15720" y="677880"/>
            <a:ext cx="75358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369880" y="2201760"/>
            <a:ext cx="35532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101280" y="2201760"/>
            <a:ext cx="35532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369880" y="4590000"/>
            <a:ext cx="728172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C95B5-B63A-47C9-88BE-06A86D22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15720" y="677880"/>
            <a:ext cx="75358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9880" y="2201760"/>
            <a:ext cx="728172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369880" y="4590000"/>
            <a:ext cx="728172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E5D7B-10FE-4A42-BE74-67A1425FA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15720" y="677880"/>
            <a:ext cx="75358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369880" y="2201760"/>
            <a:ext cx="35532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101280" y="2201760"/>
            <a:ext cx="35532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369880" y="4590000"/>
            <a:ext cx="35532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101280" y="4590000"/>
            <a:ext cx="35532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81202-DD93-4FD8-B300-A5A653837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15720" y="677880"/>
            <a:ext cx="75358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369880" y="2201760"/>
            <a:ext cx="234432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1920" y="2201760"/>
            <a:ext cx="234432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293600" y="2201760"/>
            <a:ext cx="234432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369880" y="4590000"/>
            <a:ext cx="234432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1920" y="4590000"/>
            <a:ext cx="234432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293600" y="4590000"/>
            <a:ext cx="234432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C6947-686E-4A5D-85AE-60212FB16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15720" y="677880"/>
            <a:ext cx="75358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369880" y="2201760"/>
            <a:ext cx="728172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94DE-15B0-4B52-AC2D-F9CD11264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15720" y="677880"/>
            <a:ext cx="75358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369880" y="2201760"/>
            <a:ext cx="355320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101280" y="2201760"/>
            <a:ext cx="355320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F3F1-70CC-4B82-904B-11BE7D3D8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15720" y="677880"/>
            <a:ext cx="75358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3322-D3C5-4657-8C86-C2FD591CB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15720" y="677880"/>
            <a:ext cx="753588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484C-1847-44E0-8D07-40271B366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15720" y="677880"/>
            <a:ext cx="75358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369880" y="2201760"/>
            <a:ext cx="35532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101280" y="2201760"/>
            <a:ext cx="355320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369880" y="4590000"/>
            <a:ext cx="35532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C941-475E-4208-91FE-79F30D41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15720" y="677880"/>
            <a:ext cx="75358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369880" y="2201760"/>
            <a:ext cx="355320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101280" y="2201760"/>
            <a:ext cx="35532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101280" y="4590000"/>
            <a:ext cx="35532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3633-8740-44B3-BD11-CF5BBBFD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15720" y="677880"/>
            <a:ext cx="75358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369880" y="2201760"/>
            <a:ext cx="35532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101280" y="2201760"/>
            <a:ext cx="35532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369880" y="4590000"/>
            <a:ext cx="728172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57AC-D2EF-48F8-91AA-12EDFD3B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15720" y="677880"/>
            <a:ext cx="75358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369880" y="2201760"/>
            <a:ext cx="728172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0000"/>
          </a:bodyPr>
          <a:p>
            <a:pPr marL="342720" indent="-342720"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2680" indent="-285480">
              <a:spcBef>
                <a:spcPts val="901"/>
              </a:spcBef>
              <a:buClr>
                <a:srgbClr val="000000"/>
              </a:buClr>
              <a:buFont typeface="Verdana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Verdana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Verdana"/>
              <a:buChar char="»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Verdana"/>
              <a:buChar char="»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Verdana"/>
              <a:buChar char="»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32040" y="6941880"/>
            <a:ext cx="2116080" cy="507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26000" y="6941880"/>
            <a:ext cx="3216240" cy="507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35880" y="6941880"/>
            <a:ext cx="2116080" cy="507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1788A8BD-6992-4619-9477-83617BB5B7BA}" type="slidenum"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40160" y="2201400"/>
            <a:ext cx="6858000" cy="1608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015920" y="6941880"/>
            <a:ext cx="2116080" cy="507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471840" y="6941880"/>
            <a:ext cx="3216240" cy="507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81360" y="6941880"/>
            <a:ext cx="2116440" cy="507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305FF796-123E-4AF3-8732-CEC1A17525D3}" type="slidenum"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07960" indent="0" algn="ctr">
              <a:spcBef>
                <a:spcPts val="77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2" marL="1015920" algn="ctr"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3" marL="1523880" algn="ctr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2031840" algn="ctr">
              <a:spcBef>
                <a:spcPts val="550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2031840">
              <a:spcBef>
                <a:spcPts val="55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2031840">
              <a:spcBef>
                <a:spcPts val="55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oogle.com/url?sa=X&amp;start=1&amp;oi=define&amp;ei=BcClSfObEYy-M4PvscAK&amp;sig2=UbrEdI1d-Y-U-iNk3swPnQ&amp;q=http://www.parliament.vic.gov.au/SARC/E-Democracy/Final_Report/Glossary.htm&amp;usg=AFQjCNFYUXCdxRPdvyzGd4_2skpEQqSI5g" TargetMode="External"/><Relationship Id="rId3" Type="http://schemas.openxmlformats.org/officeDocument/2006/relationships/hyperlink" Target="http://www.google.com/url?sa=X&amp;start=1&amp;oi=define&amp;ei=BcClSfObEYy-M4PvscAK&amp;sig2=UbrEdI1d-Y-U-iNk3swPnQ&amp;q=http://www.parliament.vic.gov.au/SARC/E-Democracy/Final_Report/Glossary.htm&amp;usg=AFQjCNFYUXCdxRPdvyzGd4_2skpEQqSI5g" TargetMode="External"/><Relationship Id="rId4" Type="http://schemas.openxmlformats.org/officeDocument/2006/relationships/hyperlink" Target="http://www.google.com/url?sa=X&amp;start=1&amp;oi=define&amp;ei=BcClSfObEYy-M4PvscAK&amp;sig2=UbrEdI1d-Y-U-iNk3swPnQ&amp;q=http://www.parliament.vic.gov.au/SARC/E-Democracy/Final_Report/Glossary.htm&amp;usg=AFQjCNFYUXCdxRPdvyzGd4_2skpEQqSI5g" TargetMode="External"/><Relationship Id="rId5" Type="http://schemas.openxmlformats.org/officeDocument/2006/relationships/hyperlink" Target="http://www.google.com/url?sa=X&amp;start=1&amp;oi=define&amp;ei=BcClSfObEYy-M4PvscAK&amp;sig2=UbrEdI1d-Y-U-iNk3swPnQ&amp;q=http://www.parliament.vic.gov.au/SARC/E-Democracy/Final_Report/Glossary.htm&amp;usg=AFQjCNFYUXCdxRPdvyzGd4_2skpEQqSI5g" TargetMode="External"/><Relationship Id="rId6" Type="http://schemas.openxmlformats.org/officeDocument/2006/relationships/hyperlink" Target="http://www.google.com/url?sa=X&amp;start=1&amp;oi=define&amp;ei=BcClSfObEYy-M4PvscAK&amp;sig2=UbrEdI1d-Y-U-iNk3swPnQ&amp;q=http://www.parliament.vic.gov.au/SARC/E-Democracy/Final_Report/Glossary.htm&amp;usg=AFQjCNFYUXCdxRPdvyzGd4_2skpEQqSI5g" TargetMode="External"/><Relationship Id="rId7" Type="http://schemas.openxmlformats.org/officeDocument/2006/relationships/hyperlink" Target="http://www.google.com/url?sa=X&amp;start=1&amp;oi=define&amp;ei=BcClSfObEYy-M4PvscAK&amp;sig2=UbrEdI1d-Y-U-iNk3swPnQ&amp;q=http://www.parliament.vic.gov.au/SARC/E-Democracy/Final_Report/Glossary.htm&amp;usg=AFQjCNFYUXCdxRPdvyzGd4_2skpEQqSI5g" TargetMode="External"/><Relationship Id="rId8" Type="http://schemas.openxmlformats.org/officeDocument/2006/relationships/hyperlink" Target="http://www.google.com/url?sa=X&amp;start=1&amp;oi=define&amp;ei=BcClSfObEYy-M4PvscAK&amp;sig2=UbrEdI1d-Y-U-iNk3swPnQ&amp;q=http://www.parliament.vic.gov.au/SARC/E-Democracy/Final_Report/Glossary.htm&amp;usg=AFQjCNFYUXCdxRPdvyzGd4_2skpEQqSI5g" TargetMode="External"/><Relationship Id="rId9" Type="http://schemas.openxmlformats.org/officeDocument/2006/relationships/hyperlink" Target="http://www.quantum3.co.za/CI%20Glossary.htm" TargetMode="External"/><Relationship Id="rId10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5597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Social Networks in the Education Setting</a:t>
            </a:r>
            <a:endParaRPr b="0" lang="en-US" sz="5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3880" y="2819160"/>
            <a:ext cx="675648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yan Schaaf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ason Poirie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ltimore Convention Center Room 334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:30 p.m. – 4:00 p.m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04720" y="647640"/>
            <a:ext cx="915048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15720" y="677880"/>
            <a:ext cx="75358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Verdana"/>
              </a:rPr>
              <a:t>Hands-On Session</a:t>
            </a:r>
            <a:endParaRPr b="0" lang="en-US" sz="4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9448560" cy="4647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Go to http://www.ning.com and sign up. Only give required information. Feel free to add a photo if you have one for your profile page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Go to http://micca2009.ning.com and sign up to join.You will request to join and I will accept you into the network.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53588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Hands-On Session (cont’d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9372600" cy="541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Break up into grou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ach group will concentrate on a certain feature of the network to add some content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15720" y="677880"/>
            <a:ext cx="75358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Verdana"/>
              </a:rPr>
              <a:t>Group 1</a:t>
            </a:r>
            <a:endParaRPr b="0" lang="en-US" sz="4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369880" y="2201760"/>
            <a:ext cx="728172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iscussion Group - each member can respond to the discussion thread that was sta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s there a place for social networks in education? What are the pros and cons to having them?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15720" y="677880"/>
            <a:ext cx="75358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Verdana"/>
              </a:rPr>
              <a:t>Group 2 </a:t>
            </a:r>
            <a:endParaRPr b="0" lang="en-US" sz="4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369880" y="2201760"/>
            <a:ext cx="728172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0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lendar Group - this group can add fictitious events occurring in the new future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115720" y="677880"/>
            <a:ext cx="75358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Verdana"/>
              </a:rPr>
              <a:t>Group 3</a:t>
            </a:r>
            <a:endParaRPr b="0" lang="en-US" sz="4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369880" y="2201760"/>
            <a:ext cx="728172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0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Blog group - create a post describing some of the interesting booths, workshops, or sessions you have or are looking forward to visiting this year at the conference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15720" y="677880"/>
            <a:ext cx="75358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Verdana"/>
              </a:rPr>
              <a:t>Group 4</a:t>
            </a:r>
            <a:endParaRPr b="0" lang="en-US" sz="4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369880" y="2201760"/>
            <a:ext cx="728172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0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ext Box 1 Group - add internet links with short descriptions of internet sites about social networks.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15720" y="677880"/>
            <a:ext cx="75358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Verdana"/>
              </a:rPr>
              <a:t>Group 5</a:t>
            </a:r>
            <a:endParaRPr b="0" lang="en-US" sz="4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369880" y="2201760"/>
            <a:ext cx="728172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0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otes Group - please create a short summary of key points made during the workshop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15720" y="677880"/>
            <a:ext cx="75358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Verdana"/>
              </a:rPr>
              <a:t>Group 6 </a:t>
            </a:r>
            <a:endParaRPr b="0" lang="en-US" sz="4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369880" y="2201760"/>
            <a:ext cx="728172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0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ext Box 2 Group -add cool web 2.0 websites with a short description of their purpose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96680" y="721800"/>
            <a:ext cx="8566200" cy="117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Verdana"/>
              </a:rPr>
              <a:t>Workshop Agenda</a:t>
            </a:r>
            <a:endParaRPr b="0" lang="en-US" sz="4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96680" y="2246400"/>
            <a:ext cx="8566200" cy="44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07960" indent="-393480">
              <a:lnSpc>
                <a:spcPct val="95000"/>
              </a:lnSpc>
              <a:buClr>
                <a:srgbClr val="000000"/>
              </a:buClr>
              <a:buFont typeface="Verdana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Workshop Motivation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507960" indent="-393480">
              <a:lnSpc>
                <a:spcPct val="95000"/>
              </a:lnSpc>
              <a:buClr>
                <a:srgbClr val="000000"/>
              </a:buClr>
              <a:buFont typeface="Verdana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fine &amp; Analyze Social Networks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507960" indent="-393480">
              <a:lnSpc>
                <a:spcPct val="95000"/>
              </a:lnSpc>
              <a:buClr>
                <a:srgbClr val="000000"/>
              </a:buClr>
              <a:buFont typeface="Verdana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mpact on Society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507960" indent="-393480">
              <a:lnSpc>
                <a:spcPct val="95000"/>
              </a:lnSpc>
              <a:buClr>
                <a:srgbClr val="000000"/>
              </a:buClr>
              <a:buFont typeface="Verdana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view Social Network Features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507960" indent="-393480">
              <a:lnSpc>
                <a:spcPct val="95000"/>
              </a:lnSpc>
              <a:buClr>
                <a:srgbClr val="000000"/>
              </a:buClr>
              <a:buFont typeface="Verdana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ing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507960" indent="-393480">
              <a:lnSpc>
                <a:spcPct val="95000"/>
              </a:lnSpc>
              <a:buClr>
                <a:srgbClr val="000000"/>
              </a:buClr>
              <a:buFont typeface="Verdana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stablish a social network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507960" indent="-393480">
              <a:lnSpc>
                <a:spcPct val="95000"/>
              </a:lnSpc>
              <a:buClr>
                <a:srgbClr val="000000"/>
              </a:buClr>
              <a:buFont typeface="Verdana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xamine how social networks can be used in an education setting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0440" y="304920"/>
            <a:ext cx="9779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at is a Social Network??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85920" y="1295280"/>
            <a:ext cx="97740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07960"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07960" indent="-3934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personal or professional set of relationships between individuals. Social networks represent both a collection of ties between people and the strength of those ties. ...</a:t>
            </a:r>
            <a:br>
              <a:rPr sz="2700"/>
            </a:br>
            <a:r>
              <a:rPr b="0" lang="en-US" sz="2700" spc="-1" strike="noStrike" u="sng">
                <a:solidFill>
                  <a:srgbClr val="3333cc"/>
                </a:solidFill>
                <a:uFillTx/>
                <a:latin typeface="Arial"/>
                <a:ea typeface="ＭＳ Ｐゴシック"/>
                <a:hlinkClick r:id="rId2"/>
              </a:rPr>
              <a:t>www.parliament.</a:t>
            </a:r>
            <a:r>
              <a:rPr b="0" lang="en-US" sz="2700" spc="-1" strike="noStrike" u="sng">
                <a:solidFill>
                  <a:srgbClr val="3333cc"/>
                </a:solidFill>
                <a:uFillTx/>
                <a:latin typeface="Arial"/>
                <a:ea typeface="ＭＳ Ｐゴシック"/>
                <a:hlinkClick r:id="rId3"/>
              </a:rPr>
              <a:t>vic</a:t>
            </a:r>
            <a:r>
              <a:rPr b="0" lang="en-US" sz="2700" spc="-1" strike="noStrike" u="sng">
                <a:solidFill>
                  <a:srgbClr val="3333cc"/>
                </a:solidFill>
                <a:uFillTx/>
                <a:latin typeface="Arial"/>
                <a:ea typeface="ＭＳ Ｐゴシック"/>
                <a:hlinkClick r:id="rId4"/>
              </a:rPr>
              <a:t>.</a:t>
            </a:r>
            <a:r>
              <a:rPr b="0" lang="en-US" sz="2700" spc="-1" strike="noStrike" u="sng">
                <a:solidFill>
                  <a:srgbClr val="3333cc"/>
                </a:solidFill>
                <a:uFillTx/>
                <a:latin typeface="Arial"/>
                <a:ea typeface="ＭＳ Ｐゴシック"/>
                <a:hlinkClick r:id="rId5"/>
              </a:rPr>
              <a:t>gov</a:t>
            </a:r>
            <a:r>
              <a:rPr b="0" lang="en-US" sz="2700" spc="-1" strike="noStrike" u="sng">
                <a:solidFill>
                  <a:srgbClr val="3333cc"/>
                </a:solidFill>
                <a:uFillTx/>
                <a:latin typeface="Arial"/>
                <a:ea typeface="ＭＳ Ｐゴシック"/>
                <a:hlinkClick r:id="rId6"/>
              </a:rPr>
              <a:t>.</a:t>
            </a:r>
            <a:r>
              <a:rPr b="0" lang="en-US" sz="2700" spc="-1" strike="noStrike" u="sng">
                <a:solidFill>
                  <a:srgbClr val="3333cc"/>
                </a:solidFill>
                <a:uFillTx/>
                <a:latin typeface="Arial"/>
                <a:ea typeface="ＭＳ Ｐゴシック"/>
                <a:hlinkClick r:id="rId7"/>
              </a:rPr>
              <a:t>au/SARC/E-Democracy/Final_Report/Glossary</a:t>
            </a:r>
            <a:r>
              <a:rPr b="0" lang="en-US" sz="2700" spc="-1" strike="noStrike" u="sng">
                <a:solidFill>
                  <a:srgbClr val="3333cc"/>
                </a:solidFill>
                <a:uFillTx/>
                <a:latin typeface="Arial"/>
                <a:ea typeface="ＭＳ Ｐゴシック"/>
                <a:hlinkClick r:id="rId8"/>
              </a:rPr>
              <a:t>.htm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507960" indent="-3934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a map of relationships between individuals or organizations. It comprises nodes (usually individuals or organizations)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507960" indent="-3934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 u="sng">
                <a:solidFill>
                  <a:srgbClr val="3333cc"/>
                </a:solidFill>
                <a:uFillTx/>
                <a:latin typeface="Arial"/>
                <a:ea typeface="ＭＳ Ｐゴシック"/>
                <a:hlinkClick r:id="rId9"/>
              </a:rPr>
              <a:t>www.quantum3.co.za/CI%20Glossary.htm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507960" indent="-3934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web of interconnected people who directly or indirectly interact </a:t>
            </a:r>
            <a:br>
              <a:rPr sz="2700"/>
            </a:b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ＭＳ Ｐゴシック"/>
              </a:rPr>
              <a:t>rrtcpbs.fmhi.usf.edu/rrtcpbsweb/glossary.htm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0360" y="46080"/>
            <a:ext cx="8566200" cy="11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Verdana"/>
              </a:rPr>
              <a:t>Popular Social Networks - Number of Accounts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"/>
          <p:cNvSpPr/>
          <p:nvPr/>
        </p:nvSpPr>
        <p:spPr>
          <a:xfrm>
            <a:off x="2759040" y="1022400"/>
            <a:ext cx="244620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don, based serving Eur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24560" y="1074600"/>
            <a:ext cx="29034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 million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689200" y="1974960"/>
            <a:ext cx="244620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g early, Blog of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559480" y="2027160"/>
            <a:ext cx="29034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 million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59040" y="2909880"/>
            <a:ext cx="2446200" cy="10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, connect and keep in touch with fri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83080" y="2962440"/>
            <a:ext cx="2903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 million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76680" y="4179960"/>
            <a:ext cx="244620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 organized by city or region to connect and interact with other peo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52920" y="4232160"/>
            <a:ext cx="2903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  million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30680" y="5484960"/>
            <a:ext cx="244620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active, user-submitted network of friends, personal profiles, blogs, groups, photos, music, and vide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70560" y="5626080"/>
            <a:ext cx="29034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3 million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703440" y="2009880"/>
            <a:ext cx="1906560" cy="712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090440" y="1111320"/>
            <a:ext cx="1322640" cy="609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055520" y="5626080"/>
            <a:ext cx="1474920" cy="1474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650880" y="4373640"/>
            <a:ext cx="1906560" cy="7128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17640" y="3121200"/>
            <a:ext cx="2673000" cy="72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406600" y="246240"/>
            <a:ext cx="525780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cial Networking Spotlight - Worldw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1905120"/>
            <a:ext cx="853452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 140 global social network services worldw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7 billion user ac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less than 8 months, Facebook has doubled its users from 100 to 200 million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Space has booted over 90,000 sex offenders from its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mainstream businesses are using social networks as a means for communication. IBM launched LotusLive.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>
            <a:lum contrast="-2000"/>
          </a:blip>
          <a:stretch/>
        </p:blipFill>
        <p:spPr>
          <a:xfrm>
            <a:off x="1219320" y="1523880"/>
            <a:ext cx="7696080" cy="4646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3124080" y="2133720"/>
            <a:ext cx="916200" cy="7048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981080" y="762120"/>
            <a:ext cx="65534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Networking Topogra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15720" y="677880"/>
            <a:ext cx="75358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Verdana"/>
              </a:rPr>
              <a:t>Potential School-based Social Networks</a:t>
            </a:r>
            <a:endParaRPr b="0" lang="en-US" sz="4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369880" y="2201760"/>
            <a:ext cx="728172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Schools United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www.theschoolsunited.co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gg.or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elgg.or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www.ning.co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96680" y="721800"/>
            <a:ext cx="8566200" cy="117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Ning Features</a:t>
            </a:r>
            <a:endParaRPr b="0" lang="en-US" sz="4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4425840" cy="38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07960" indent="-3934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rolled membershi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07960" indent="-3934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ivacy sett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07960" indent="-3934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al-time activity stream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07960" indent="-3934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d Textboxes and widge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07960" indent="-3934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SS Feed In/Ou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4800600" y="1981080"/>
            <a:ext cx="4807080" cy="32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oto Gall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deo Gall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cussion Bo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 Cha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o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ent Calend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04720" y="790560"/>
            <a:ext cx="9150480" cy="60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Howard County</cp:lastModifiedBy>
  <dcterms:modified xsi:type="dcterms:W3CDTF">2009-04-15T21:14:47Z</dcterms:modified>
  <cp:revision>4</cp:revision>
  <dc:subject/>
  <dc:title>PowerPoint Presentation</dc:title>
</cp:coreProperties>
</file>